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BF43-5282-451A-9D36-C8AEC598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1D26-A74E-47EB-BD68-D74AEEBEF5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DCD9-3337-4CA3-B0BA-A1D6230A87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398E-52EF-4E7B-A3F9-B5F127459E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934-2CB4-40A0-BF02-8080AB063E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B42C-3DB3-490B-A904-CDB8E473E1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A44-6A2F-45E6-A4B3-6E98E4AD5C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AD05-AA4E-4FFC-938A-722106B72E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912D-CE7D-4922-B50D-2B138882B7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EC0C-C849-4702-ACAC-4B094124E9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D6F9-164B-4509-B092-A898B0A8C6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4EE-0871-47E3-A10D-22A6C9DA99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8C6-D3A1-4853-93B7-9E6062FCD2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572B-87A6-4D97-8ED5-0E0AA2822C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41F3-3228-46C7-86E4-6D6F7A3515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240-9C1E-4C59-8937-CCC7C58CBB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43D2-1663-4601-BC51-C470A48334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8B9-5956-46A2-9793-BD0E971765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296A-42B2-4AAA-BF76-EE1F85204E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AB65-58A6-4C98-9A22-414FCDC167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41D-C3FD-4841-8FB1-BA961C99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F8C-48F1-46F3-8248-2297F46F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350-E6C9-4613-8805-FAE9CE4E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0E2-7C0C-4AEF-B214-ABCB7B42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8735-9E4D-4192-9B6E-5106BCD4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0817-AC6C-4479-AF92-62F7B1BC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61F-1BAE-4FCB-B4AE-6763FB3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1A6-F4ED-4960-ADA6-B8665155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AA8F-45F9-49A3-BAFD-5081B80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0C3F-EA16-4CB4-9490-5A095957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CC0-7351-456A-A419-E61BFD1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3EC-24CF-48D0-9896-5C130D0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4E29-AA2F-4531-BAE9-D90E1462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625-AF1C-43E1-B532-C1BF2BE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AF8-4062-4469-A2FF-D8118D12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0B2-9CDF-45EB-A171-3A1FEDF9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4702-B51F-4487-BD11-0DBF8866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DDCF9-F861-47BB-BF9A-6E79C2BB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A3D3-C828-481D-A5CC-91873E40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E436-BDCD-40E3-A1EA-26BC550D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7A84-FD5A-4A53-A17C-537C8C5A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5B9A-C470-48CF-9D8B-A1EA57B8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1FE-2C55-49CA-BE29-9337E2A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F22A-ED32-4893-9984-A1C155C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8DB3-0331-4945-A4B4-FCEDC48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60AE-BF2C-436A-A482-A00D6C48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10A0-E840-480B-81D0-A654E34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694F-6CF9-4FC0-A95A-56B2517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1FA9-CC78-4352-95D8-16C9E7C9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D805-1BD6-4CD8-9E77-5F6DC693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6235-C6A2-4A0D-9947-0579FD6A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3B46-9622-41DF-B589-B857F0ED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2081-D1AC-4760-812B-4B718B0B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4C4-52D9-4F44-9A2C-A8EA8C9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CFD4-9843-4717-A814-134B6FC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BF69-8E49-4864-8499-261D6F4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EDAE-83EF-4B4E-8853-5D402060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D6C5-534B-4FC8-AC4A-B6C2772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3CC6-1AFE-4CCC-A715-D7E3627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860A-61DC-4F64-9233-9D2EFCD1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D6AA-FD59-4D20-B9F4-49EF35A6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8341-AB1E-45FB-8DD0-846A3BD4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5DDE-4CF0-4A8A-A711-60F251D5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27A0-FA27-4184-9643-5C090717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7B0-74B2-4417-BBD4-A1987EE5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55791-7B42-4514-A29D-EB4493D1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7F2EB-3BB0-4589-91B6-533CD2EE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8DE4-45BF-4D90-9E1E-127516AA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23D9C-4739-4661-9321-075F9EC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8BFB3-81A6-4ACA-9EA7-A3C507B5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512C-AD59-4ED2-834A-62662D83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A228-D6FA-4E17-80CE-C192EDCB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A3A3-C5C2-4DEC-A645-64F9259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5265-65F5-48F4-A102-FA9E0F75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1D2E-6154-4067-8A6D-1EC5DB87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700-D052-4B3F-9AD5-97F31AB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C796-433F-4BFF-A37D-0131572F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237C-6395-48B0-98AF-E17415CD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4E0CC-F2A2-4060-B13D-747B59D7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B949-E0B8-473A-AB22-4F967868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3795-B14E-41CB-9DD4-FD36C56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C718-0BB8-41A5-9E3E-8568E57D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7B23-6BBC-491C-9490-DB46AE6F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4F50-6380-400B-87E3-534B1732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78ED-4D00-4B9F-868B-556EB60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E70A-EA49-40DE-9EDF-327ACD2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2AF-57AE-49EA-8B2B-5C06AD7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D415-167B-442F-A845-D60CFC2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478C-2856-43DA-92A5-5A583EF9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120F-F227-4434-A05E-36BB299E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1076-D614-4606-A87A-B5ED71EE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D44BA-27D7-45BC-8A34-73D91359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4497-4C10-4D4F-B1EB-CF66D551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2B58-F417-484C-B880-CF39EC2A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FBC9-C842-4FB7-BB6F-84025DD9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77FA-7A13-400E-A17C-07CE2190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9C65-F99B-4E1C-A45E-1433B39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4BD-C138-48EB-80B2-1407651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7EBFA-BEE5-4B5A-BD59-98ADD62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2D30-3C89-4D0A-A555-496DE9B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C951-6A75-400D-A5E3-1306F3E6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F3CAC-3BE8-4160-A200-065BD874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665A8-657D-4266-B2B4-C5140987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5E0-E413-4C47-A13E-08980A1A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4F36-367F-46EF-AF62-58A817F6A9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29E-29A0-4672-A269-3A516A9C149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5D35-6FCF-4E35-A3F9-F5CF2E46D8B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63C7-DC9C-416C-93A8-10F841080F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BFD-2986-4C17-A18C-43A024E267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73A-DFA0-44D5-8336-C0C452AA895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C133-6DB8-4D6E-827C-C9E85ACFAC6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682560" y="1420920"/>
            <a:ext cx="7785000" cy="190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Writting_books"/>
          <p:cNvPicPr/>
          <p:nvPr/>
        </p:nvPicPr>
        <p:blipFill>
          <a:blip r:embed="rId2"/>
          <a:stretch/>
        </p:blipFill>
        <p:spPr>
          <a:xfrm>
            <a:off x="3733920" y="2971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685800" y="611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Garo,C. (2007).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eaching educational technology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Manila: Rex Publishing Company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aracens or the Arabs among the Moors of Spa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im of education was search for knowledge and the application of scientific facts to their daily liv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curriculum was the most organized and complete in the elementary, secondary, and collegiate leve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universities and libraries were the models in the entire Europe because they invented the printing pre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riginated the scientific method of teac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naissance Peri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rn times beg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nes of concern: intellectual, aesthetic, and scientif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vements: humanism, disciplinism, and rationalis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tionalism: contributed to the development of educational technology especially along theories and pract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4" descr="Lady_MacBeth_2"/>
          <p:cNvPicPr/>
          <p:nvPr/>
        </p:nvPicPr>
        <p:blipFill>
          <a:blip r:embed="rId1"/>
          <a:stretch/>
        </p:blipFill>
        <p:spPr>
          <a:xfrm>
            <a:off x="7238880" y="30492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Locke: nature of the child’s mind at birth (tabula ras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ann Amos Comenius: developed the first picture book known as Orbis Pictus (The World in Picture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ioneer in instructional technology develop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ria Montessori: use of multi-sensory materials in tea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ge of Natur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Jean Jacques Rousseau: authored the book Em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im of education was the preservation of the natural goodness of the individual and the formation of society based upon the recognition of natural individual righ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bartian Method of Teaching: preparation, presentation, comparison and abstraction, generalization and appl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stallozi: believed that teaching is more effective if it proceeds from concrete to abstract, hence the use of actual and real objects that involve most of the sen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ebel: father of kindergar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hasized the use of actual objects which could be manipulated by the lear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mmended the use of play and so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9</a:t>
            </a:r>
            <a:r>
              <a:rPr b="0" lang="en-US" sz="4000" spc="-1" strike="noStrike" baseline="30000">
                <a:solidFill>
                  <a:srgbClr val="c1eeff"/>
                </a:solidFill>
                <a:latin typeface="Consolas"/>
              </a:rPr>
              <a:t>th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Centu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Dewey: formulated the scientific theory of learning; pragmat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ward Thorndike: three laws of learning; connection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ved the way to the development of effective educational technology including the production of books, use of blackboards, and improvement of writing imple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tography was invented giving way to a movement called visual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sual media became widely accepted in 19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dio-visual media texts was publish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26, educational films were used as instructional med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32, the first instructional TV program was aired at the State University of Iow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4" descr="TV"/>
          <p:cNvPicPr/>
          <p:nvPr/>
        </p:nvPicPr>
        <p:blipFill>
          <a:blip r:embed="rId1"/>
          <a:stretch/>
        </p:blipFill>
        <p:spPr>
          <a:xfrm>
            <a:off x="7315200" y="358128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6mm sound motion picture was developed\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uring the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orld War: movies, filmstrips, radio, and other pictorial devices were used in military train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grammed instruction by Skin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loom’s taxonomy of educational objecti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odularized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emporary Ti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ultimedia resources and computers in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tenance of an educational media c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sion and enrichment of curricular offerings to include courses in computer applic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CA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ultimedia presentations in the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al organizations are linking up with TE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Internet and E-mail for fast-paced interactive learning, communication, and search for inform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 literacy programs for ISYs and OS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s became more user-friend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Ancient Civi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pointed sticks to inscript signs and symbols on the lea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knives to inscript signs and symbols on the bark of tre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809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gyptians (3100 B.C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ed a system of picture writing called hieroglyph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eroglyphics – may represent the objects for which they stand for or represent a sound or group of sou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ribes – group of men trained on the art of writing and came to be the country’s chronicler of event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457200" y="228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out 3100 B.C.  Devised a  a system of picture writ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209680" y="762120"/>
            <a:ext cx="449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6"/>
          <p:cNvSpPr txBox="1"/>
          <p:nvPr/>
        </p:nvSpPr>
        <p:spPr>
          <a:xfrm>
            <a:off x="45720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533520" y="1295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ecff"/>
                </a:solidFill>
                <a:latin typeface="Garamond"/>
              </a:rPr>
              <a:t>Represent the objects for which they stand for and represent a sound or group of sound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83822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ncient Gree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artan Education – emphasized the development of the physical body coupled with discip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Boy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exercises and activities that promoted bodily strength, endurance, and vit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ctivities: dancing, wrestling, horseback riding, swimming, gymnas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idonomus: the boys’ teacher; a military commander in the public barrack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irl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stayed at home with their mothers and were taught housekeepi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the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rst to recognize the right of the individual to develop to the full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lieved that the mind and the body has a strong relationsh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concern of music schools, grammar schools, and public gymnasiums / palaestra is developing the mind and the bo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phis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wandering schol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emphasized cognitive rules, systematic arrangement of subject matter, use of instructional technologies, design and implementation of effective instructional materi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dieval E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stablishment of the Medieval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eror Frederick I of Bologna in 1158 chartered the first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grees offered were expanded which required students to engage in more in depth studies and to write their theses, defend them in public before the deans, facultas, and rect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51:21Z</dcterms:created>
  <dc:creator>User</dc:creator>
  <dc:description/>
  <dc:language>en-US</dc:language>
  <cp:lastModifiedBy>msu-iit</cp:lastModifiedBy>
  <dcterms:modified xsi:type="dcterms:W3CDTF">2011-06-28T03:45:28Z</dcterms:modified>
  <cp:revision>52</cp:revision>
  <dc:subject/>
  <dc:title>History of Educational Technology</dc:title>
</cp:coreProperties>
</file>